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1709-D44F-4D5B-A31F-E533A4C3E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4C63-52A6-4844-9010-6061550F4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F472-D2FA-4D8F-A31D-A546C4423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4AB1-FE99-4BD4-9EEE-A77ABFB7D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3542-C07D-4940-A53B-255CDE8FE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BF1A-B6E8-4D8A-AFDA-F347F4C68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BD3D-0D1D-4CC3-A8D9-67DDA350D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1D64-1C8B-46AE-9C44-83A3FC765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C56A-D6A9-4B53-AA91-9E93AF255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CD75-45BD-4EDC-91C9-4A9EFF1FD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69C2-E782-4F3F-B5AA-D112657BF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752A-8714-4505-A984-C49CDC814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BAF4-4D10-4842-8EA1-FF4BD18AF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DDCC-0C55-4E80-8F7E-036801BE7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753F-2E96-4E1E-92D4-5B0961690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98C1-ADCD-4E8C-863C-C0056176F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2237-15B6-4ECF-AB28-36772B371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3B81-B3B8-47A6-9277-9169131AA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717-E51B-4F69-A45A-5F9C54BF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D30-67C3-4C79-B600-E3F713AC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CE1-440C-4F5D-9E23-EED84E3F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B03-9914-4FA3-B1C7-8C382B9E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2879-463A-46E8-B3F8-A4A4EEF9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31E8-DAD0-4ED9-BD8E-A29EBDBC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DA3D-41EC-4FE5-8AB2-0E0379DB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1246-C8CD-430C-972B-50CD9982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3232-0E4E-44C7-9B80-276CAF9B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3B23-5A03-479A-9CC3-1689A1DE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25F9-E936-4082-8431-FE8C3DF9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BAF-8230-40A6-AE74-C42D5F68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0178-4BE3-429F-8233-9FB61C29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66AE-699F-4E60-BC7F-1CA134B4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44D2-AAFC-49EA-B3AB-1FEFFED0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9473-7747-41C1-B4A2-731AEAE4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CBED-C01B-44AA-B924-D8B9F402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3295C-59DC-41B8-9BC8-0F8F9BAA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B9778-7C19-4370-BDA7-F3224644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72BB0-B41C-46B5-B694-B5069AA3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8F594-1B7A-4E48-A9EF-6833B93D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02A15-327F-431B-9A2D-F0B2A189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1E3-537B-41C7-9212-5365A359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C9495-C024-4118-93CF-1AEDFFD4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10043-B7EB-4B4C-B8EC-06D69EE3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29170-C8C3-46C6-9C19-D077601D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F3D69-3084-41E6-99A9-0DEF4624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0CF3C-68C9-481D-B935-ED1A4267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5C2C4-2C99-4E34-A4E5-6D81540D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D7C8F-6E37-40C7-AE58-938DA804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8B6DF-2B0F-4638-BA34-6EA8308D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B55E9-420D-4295-A3BC-19B9080D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FA7F7-BD59-4A39-9C26-60915F66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10E-E4C3-4D93-8200-A4FC9CEA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FCFB6-DAB6-48C8-89F0-EC7890FA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D6890-302E-4FAE-86F5-CCC6C82E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FC9CB-4822-4750-A9AD-67081EBB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D3CC1-EC85-4B6E-8F86-CEF92B9F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C8229-4E22-440D-B2E4-975DEDC2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A5785-4776-4B9B-AB82-E31BA169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0BB34-00F7-4C27-8424-212991BA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2FEB3-8E52-4A33-91CF-36AF6991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E5993-E9E1-428E-8100-FFDECA5F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06A-8E05-43EF-94A1-7DDC0877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C68-21CB-42F4-B037-18728282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E7F-923D-410B-9568-73019DDF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3C4-E5BE-4624-A622-0E48DB1B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EDF-1F71-44F4-9686-36F4F915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D5A0-E86B-4828-89DD-A55BCBE83DA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CB28-049A-481B-8202-C3764F677ED7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249A-D5F1-4319-8E2E-87D4D8EC0E1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AF19-F686-4E50-92D6-37B575A2B73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gentsprep.org/Regents/Math/venn/PracVenn.ht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aea25"/>
                </a:solidFill>
                <a:latin typeface="Century Gothic"/>
              </a:rPr>
              <a:t>2-4</a:t>
            </a:r>
            <a:endParaRPr b="0" lang="en-US" sz="7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09480" y="3355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800080"/>
                </a:solidFill>
                <a:latin typeface="Bradley Hand ITC"/>
              </a:rPr>
              <a:t>Venn Diagrams &amp;</a:t>
            </a:r>
            <a:endParaRPr b="0" lang="en-US" sz="56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800080"/>
                </a:solidFill>
                <a:latin typeface="Bradley Hand ITC"/>
              </a:rPr>
              <a:t>Deductive Reasoning</a:t>
            </a:r>
            <a:endParaRPr b="0" lang="en-US" sz="5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Slide Number Placeholder 1"/>
          <p:cNvSpPr/>
          <p:nvPr/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5BD5-8D5E-4FA5-8B24-8F261EF99F4D}" type="slidenum">
              <a:rPr b="0" lang="en-US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04680" y="4572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685a"/>
                </a:solidFill>
                <a:latin typeface="Century Gothic"/>
              </a:rPr>
              <a:t>More Venn Practice Problem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61760" y="1600200"/>
            <a:ext cx="755316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wenty-four members of Mu Alpha Theta went to a Mathematics conference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ne-third of the members ran cross country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ne sixth of the members were on the football team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ree members were on cross country and football teams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rest of the members were in the band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ow many were in the band?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1676520" y="4572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9E26-4AD4-4752-B94F-D7CD6638161D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Venn Challeng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914400" y="45720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81320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67BA-349E-45CC-B344-DC6F1130CF6C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E442-50C7-4728-A077-90B518ED9D5B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914400" y="45720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686520" y="2971800"/>
            <a:ext cx="79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Arial"/>
                <a:hlinkClick r:id="rId1"/>
              </a:rPr>
              <a:t>http://regentsprep.org/Regents/Math/venn/PracVenn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6704-1418-4296-9CE5-209972F6403B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the Contrapositive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295280" y="1676520"/>
            <a:ext cx="75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1685a"/>
                </a:solidFill>
                <a:uFillTx/>
                <a:latin typeface="Book Antiqua"/>
              </a:rPr>
              <a:t>Law of the Contra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conditional statement and its contrapositive are either both true or both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1685a"/>
                </a:solidFill>
                <a:uFillTx/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ntrapositive of p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~ q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~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F9C5-9BA5-490F-914A-C461BC59B37E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7907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the Contrapositive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98400" y="1767960"/>
            <a:ext cx="70200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36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an angle measures 45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  <a:ea typeface="Times New Roman"/>
              </a:rPr>
              <a:t>º, then it is acute. (a true statement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an angle is not acute, then it does not measure 45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  <a:ea typeface="Times New Roman"/>
              </a:rPr>
              <a:t>º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5638680" y="18288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BB71-0E49-442E-8C6A-0A62B2C305FE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907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the Contrapositive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98400" y="1767960"/>
            <a:ext cx="70200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36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~ t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~ a 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5638680" y="18288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0992-518D-40B6-B34F-76466F2ACD1E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9200" y="274320"/>
            <a:ext cx="6377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Detachment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776160" y="1767960"/>
            <a:ext cx="72612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 true conditional statement 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an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 hypothesis occur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at the conclusion will also occu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C684-8D33-457A-A82D-CAA1CC94A8BD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6051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Detachment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98400" y="1767960"/>
            <a:ext cx="70200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36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a dog eats biscuits, then he is happ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Fido eats biscui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Fido is happ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5638680" y="18288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9CBD-219B-42FF-8C15-7AF1B2EE2B95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6051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Detachment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98400" y="1767960"/>
            <a:ext cx="70200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36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a dog eats biscuits, then he is happ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Fido is happ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o conclusio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638680" y="18288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6DE3-8742-4088-8462-3D9104BCAB3C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Venn diagrams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5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90360" y="23623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iagram that shows relationships between different sets of dat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an represent conditional statemen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Every point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IN 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the circle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belongs to that se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Every point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OUT 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of the circle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does not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7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645C-0940-49C8-A2A6-9008D0CB7ABC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6051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Detachment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98400" y="1767960"/>
            <a:ext cx="70200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If a dog eats biscuits, then he is happy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Fido is not happy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member the contrapositive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If a dog is not happy, then he doesn’t eat biscuits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Fido does not eat biscuits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5637240" y="15033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7BCC-286F-4053-AAB6-05347AEE6BB9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6051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Detachment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98400" y="1767960"/>
            <a:ext cx="70200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36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ll humans are mortal.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Socrates is a human.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refore, Socrates is mortal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5638680" y="18288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590B-395C-4093-AACF-DD67D43773F5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051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Detachment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98400" y="1767960"/>
            <a:ext cx="70200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36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ll humans are mortal.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Socrates is mortal.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o conclusio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(Socrates could be a dog or any other mortal being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638680" y="18288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540B-4DA6-46A4-A9DC-3B57C6EE6A3D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7236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e3d2d"/>
                </a:solidFill>
                <a:uFillTx/>
                <a:latin typeface="Century Gothic"/>
              </a:rPr>
              <a:t>You are given: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3d2d"/>
                </a:solidFill>
                <a:latin typeface="Century Gothic"/>
              </a:rPr>
              <a:t>Those who choose Tint-and-Trim Hair Salon have impeccable taste.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3d2d"/>
                </a:solidFill>
                <a:latin typeface="Century Gothic"/>
              </a:rPr>
              <a:t>You have impeccable taste.</a:t>
            </a:r>
            <a:r>
              <a:rPr b="0" lang="en-US" sz="36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e3d2d"/>
                </a:solidFill>
                <a:uFillTx/>
                <a:latin typeface="Century Gothic"/>
              </a:rPr>
              <a:t>Can you conclude anything?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990720" y="45720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69B9-94A3-49DA-97ED-E2A839C445B9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727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4c600"/>
                </a:solidFill>
                <a:latin typeface="Century Gothic"/>
              </a:rPr>
              <a:t>Law of Detachment</a:t>
            </a:r>
            <a:endParaRPr b="0" lang="en-US" sz="43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9200" y="1768320"/>
            <a:ext cx="49212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p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q is tru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p is giv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q is tru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4439520" y="3219480"/>
            <a:ext cx="360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Symbolic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7643-6892-4549-8181-421A1E558282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4c600"/>
                </a:solidFill>
                <a:latin typeface="Century Gothic"/>
              </a:rPr>
              <a:t>Law of Syllogism</a:t>
            </a:r>
            <a:endParaRPr b="0" lang="en-US" sz="43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19320" y="16761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Two true conditional statements </a:t>
            </a:r>
            <a:r>
              <a:rPr b="1" i="1" lang="en-US" sz="2800" spc="-1" strike="noStrike">
                <a:solidFill>
                  <a:srgbClr val="3e3d2d"/>
                </a:solidFill>
                <a:latin typeface="Century Gothic"/>
              </a:rPr>
              <a:t>and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the conclusion of the first is the hypothesis of the second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that if the hypothesis of the first occurs, then the conclusion of the second will also occu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3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6DCF-3E83-457A-91AC-627DD6C1B803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2"/>
          <p:cNvSpPr/>
          <p:nvPr/>
        </p:nvSpPr>
        <p:spPr>
          <a:xfrm>
            <a:off x="1230480" y="3733920"/>
            <a:ext cx="5715000" cy="457200"/>
          </a:xfrm>
          <a:prstGeom prst="roundRect">
            <a:avLst>
              <a:gd name="adj" fmla="val 16667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"/>
          <p:cNvSpPr/>
          <p:nvPr/>
        </p:nvSpPr>
        <p:spPr>
          <a:xfrm rot="3900000">
            <a:off x="2476080" y="2095200"/>
            <a:ext cx="381240" cy="2895480"/>
          </a:xfrm>
          <a:prstGeom prst="downArrow">
            <a:avLst>
              <a:gd name="adj1" fmla="val 50000"/>
              <a:gd name="adj2" fmla="val 189873"/>
            </a:avLst>
          </a:prstGeom>
          <a:solidFill>
            <a:srgbClr val="ffa9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"/>
          <p:cNvSpPr/>
          <p:nvPr/>
        </p:nvSpPr>
        <p:spPr>
          <a:xfrm>
            <a:off x="1295280" y="2514600"/>
            <a:ext cx="2743200" cy="533520"/>
          </a:xfrm>
          <a:prstGeom prst="roundRect">
            <a:avLst>
              <a:gd name="adj" fmla="val 16667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5105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Syllogism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218960" y="182880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it rains today, then we will not have a picnic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we do not have a picnic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n we will not see our friend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it rains today, then we will not see our friend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5977440" y="1658880"/>
            <a:ext cx="22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Callout 1"/>
          <p:cNvSpPr/>
          <p:nvPr/>
        </p:nvSpPr>
        <p:spPr>
          <a:xfrm>
            <a:off x="6945480" y="2651040"/>
            <a:ext cx="2286000" cy="1676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What is repe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3"/>
          <p:cNvSpPr/>
          <p:nvPr/>
        </p:nvSpPr>
        <p:spPr>
          <a:xfrm>
            <a:off x="4191120" y="2759040"/>
            <a:ext cx="2754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10"/>
          <p:cNvSpPr/>
          <p:nvPr/>
        </p:nvSpPr>
        <p:spPr>
          <a:xfrm>
            <a:off x="1295280" y="3068640"/>
            <a:ext cx="1600200" cy="6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12"/>
          <p:cNvSpPr/>
          <p:nvPr/>
        </p:nvSpPr>
        <p:spPr>
          <a:xfrm>
            <a:off x="1066680" y="3552840"/>
            <a:ext cx="3733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6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E6EB-C091-403F-AB5D-46DF99EBBDAF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7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Recall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762120" y="17521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 = b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b = c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85a"/>
                </a:solidFill>
                <a:latin typeface="Century Gothic"/>
              </a:rPr>
              <a:t>What is the conclusion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 = c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The name of this algebra property is th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T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7" name="TextBox 1"/>
          <p:cNvSpPr/>
          <p:nvPr/>
        </p:nvSpPr>
        <p:spPr>
          <a:xfrm>
            <a:off x="1905120" y="53341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NSITIV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2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C3D2-213E-4E9E-A2E5-DB3C36FE1131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/>
          <p:cNvSpPr/>
          <p:nvPr/>
        </p:nvSpPr>
        <p:spPr>
          <a:xfrm>
            <a:off x="1295280" y="5486400"/>
            <a:ext cx="2895840" cy="762120"/>
          </a:xfrm>
          <a:custGeom>
            <a:avLst/>
            <a:gdLst>
              <a:gd name="textAreaLeft" fmla="*/ 506520 w 2895840"/>
              <a:gd name="textAreaRight" fmla="*/ 2099520 w 289584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168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7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Syllogism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762120" y="175248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p 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q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q 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85a"/>
                </a:solidFill>
                <a:latin typeface="Century Gothic"/>
              </a:rPr>
              <a:t>What is the conclusion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85a"/>
                </a:solidFill>
                <a:latin typeface="Century Gothic"/>
              </a:rPr>
              <a:t>First, make a chai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1600200" y="480060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a9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5"/>
          <p:cNvSpPr/>
          <p:nvPr/>
        </p:nvSpPr>
        <p:spPr>
          <a:xfrm>
            <a:off x="3505320" y="480060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a9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1547280" y="4724280"/>
            <a:ext cx="12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2994120" y="4724280"/>
            <a:ext cx="8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6572160" y="3505320"/>
            <a:ext cx="140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685a"/>
                </a:solidFill>
                <a:latin typeface="Book Antiqua"/>
              </a:rPr>
              <a:t>p </a:t>
            </a:r>
            <a:r>
              <a:rPr b="1" lang="en-US" sz="4000" spc="-1" strike="noStrike">
                <a:solidFill>
                  <a:srgbClr val="71685a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71685a"/>
                </a:solidFill>
                <a:latin typeface="Book Antiqua"/>
              </a:rPr>
              <a:t> 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3036-D9F4-43A4-866C-6C750439227A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2"/>
          <p:cNvSpPr/>
          <p:nvPr/>
        </p:nvSpPr>
        <p:spPr>
          <a:xfrm>
            <a:off x="1295280" y="4267080"/>
            <a:ext cx="5715000" cy="457200"/>
          </a:xfrm>
          <a:prstGeom prst="roundRect">
            <a:avLst>
              <a:gd name="adj" fmla="val 16667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1219320" y="251460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5105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Syllogism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218960" y="182880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the dog chases the cat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n the cat will run.         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the cat runs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n the mouse will laugh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the dog chases the cat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n the mouse will laugh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5977440" y="1658880"/>
            <a:ext cx="22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"/>
          <p:cNvSpPr/>
          <p:nvPr/>
        </p:nvSpPr>
        <p:spPr>
          <a:xfrm rot="3900000">
            <a:off x="3581280" y="1218960"/>
            <a:ext cx="304920" cy="4572000"/>
          </a:xfrm>
          <a:prstGeom prst="downArrow">
            <a:avLst>
              <a:gd name="adj1" fmla="val 50000"/>
              <a:gd name="adj2" fmla="val 374852"/>
            </a:avLst>
          </a:prstGeom>
          <a:solidFill>
            <a:srgbClr val="ffa9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7912-2D54-4154-BA61-BE7873671EF6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0880" y="1610640"/>
            <a:ext cx="876312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l Americans love hot do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ome Martians are gre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 Martians are Americ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/>
          <p:cNvSpPr/>
          <p:nvPr/>
        </p:nvSpPr>
        <p:spPr>
          <a:xfrm>
            <a:off x="3276720" y="251460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2971800" y="2362320"/>
            <a:ext cx="5867280" cy="914400"/>
          </a:xfrm>
          <a:prstGeom prst="roundRect">
            <a:avLst>
              <a:gd name="adj" fmla="val 16667"/>
            </a:avLst>
          </a:prstGeom>
          <a:solidFill>
            <a:srgbClr val="ffa94a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 who love hotd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82440" y="60912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Venn Practice Problem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914400" y="45720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457200" y="3886200"/>
            <a:ext cx="3809880" cy="838080"/>
          </a:xfrm>
          <a:prstGeom prst="ellipse">
            <a:avLst/>
          </a:prstGeom>
          <a:solidFill>
            <a:srgbClr val="94c6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3200400" y="3886200"/>
            <a:ext cx="4648320" cy="838080"/>
          </a:xfrm>
          <a:prstGeom prst="ellipse">
            <a:avLst/>
          </a:prstGeom>
          <a:solidFill>
            <a:srgbClr val="ffa94a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n Al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2"/>
          <p:cNvSpPr/>
          <p:nvPr/>
        </p:nvSpPr>
        <p:spPr>
          <a:xfrm>
            <a:off x="533520" y="5638680"/>
            <a:ext cx="3809880" cy="838440"/>
          </a:xfrm>
          <a:prstGeom prst="ellipse">
            <a:avLst/>
          </a:prstGeom>
          <a:solidFill>
            <a:srgbClr val="94c6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4"/>
          <p:cNvSpPr/>
          <p:nvPr/>
        </p:nvSpPr>
        <p:spPr>
          <a:xfrm>
            <a:off x="4495680" y="5486400"/>
            <a:ext cx="4191120" cy="1066680"/>
          </a:xfrm>
          <a:prstGeom prst="ellipse">
            <a:avLst/>
          </a:prstGeom>
          <a:solidFill>
            <a:srgbClr val="ffa94a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4FD5-CFF1-46D9-BE1A-743CF587177A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Syllogism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837720" y="1371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Exampl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</a:t>
            </a:r>
            <a:r>
              <a:rPr b="1" lang="en-US" sz="2400" spc="-1" strike="noStrike">
                <a:solidFill>
                  <a:srgbClr val="00b050"/>
                </a:solidFill>
                <a:latin typeface="Century Gothic"/>
              </a:rPr>
              <a:t>you give a mouse a cookie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n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he’s  going to ask for a glass of milk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you give him the milk</a:t>
            </a:r>
            <a:r>
              <a:rPr b="1" lang="en-US" sz="2400" spc="-1" strike="noStrike">
                <a:solidFill>
                  <a:srgbClr val="909465"/>
                </a:solidFill>
                <a:latin typeface="Century Gothic"/>
              </a:rPr>
              <a:t>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465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909465"/>
                </a:solidFill>
                <a:latin typeface="Century Gothic"/>
              </a:rPr>
              <a:t>then </a:t>
            </a:r>
            <a:r>
              <a:rPr b="1" lang="en-US" sz="2400" spc="-1" strike="noStrike">
                <a:solidFill>
                  <a:srgbClr val="7030a0"/>
                </a:solidFill>
                <a:latin typeface="Century Gothic"/>
              </a:rPr>
              <a:t>he’ll probably ask you for a straw</a:t>
            </a:r>
            <a:r>
              <a:rPr b="1" lang="en-US" sz="2400" spc="-1" strike="noStrike">
                <a:solidFill>
                  <a:srgbClr val="909465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f </a:t>
            </a:r>
            <a:r>
              <a:rPr b="1" lang="en-US" sz="2400" spc="-1" strike="noStrike">
                <a:solidFill>
                  <a:srgbClr val="00b050"/>
                </a:solidFill>
                <a:latin typeface="Century Gothic"/>
              </a:rPr>
              <a:t>you give a mouse a cookie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465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909465"/>
                </a:solidFill>
                <a:latin typeface="Century Gothic"/>
              </a:rPr>
              <a:t>then </a:t>
            </a:r>
            <a:r>
              <a:rPr b="1" lang="en-US" sz="2400" spc="-1" strike="noStrike">
                <a:solidFill>
                  <a:srgbClr val="7030a0"/>
                </a:solidFill>
                <a:latin typeface="Century Gothic"/>
              </a:rPr>
              <a:t>he’ll probably ask you for a straw</a:t>
            </a:r>
            <a:r>
              <a:rPr b="1" lang="en-US" sz="2400" spc="-1" strike="noStrike">
                <a:solidFill>
                  <a:srgbClr val="909465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7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BD57-72D8-4F6B-999C-B769B56DA983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AutoShape 2"/>
          <p:cNvSpPr/>
          <p:nvPr/>
        </p:nvSpPr>
        <p:spPr>
          <a:xfrm>
            <a:off x="1752480" y="5638680"/>
            <a:ext cx="6248520" cy="685800"/>
          </a:xfrm>
          <a:custGeom>
            <a:avLst/>
            <a:gdLst>
              <a:gd name="textAreaLeft" fmla="*/ 1093320 w 6248520"/>
              <a:gd name="textAreaRight" fmla="*/ 4530240 w 62485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168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1676520" y="502920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a9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6705720" y="495288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a9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4760" y="533520"/>
            <a:ext cx="79088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4c600"/>
                </a:solidFill>
                <a:latin typeface="Century Gothic"/>
              </a:rPr>
              <a:t>Law of Syllogism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066320" y="182880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are given:</a:t>
            </a: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p 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q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~ t 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a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 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~ 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~ s </a:t>
            </a:r>
            <a:r>
              <a:rPr b="1" lang="en-US" sz="2400" spc="-1" strike="noStrike">
                <a:solidFill>
                  <a:srgbClr val="3e3d2d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~ q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85a"/>
                </a:solidFill>
                <a:latin typeface="Century Gothic"/>
              </a:rPr>
              <a:t>What is the conclusion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First find each contrapositiv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ext, make a chai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1685a"/>
                </a:solidFill>
                <a:uFillTx/>
                <a:latin typeface="Century Gothic"/>
              </a:rPr>
              <a:t>You can conclude: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5638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 Antiqua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5257800" y="213372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~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1623600" y="4952880"/>
            <a:ext cx="12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3224880" y="49528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4442040" y="495288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~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6112080" y="4876920"/>
            <a:ext cx="9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7104960" y="3733920"/>
            <a:ext cx="148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685a"/>
                </a:solidFill>
                <a:latin typeface="Book Antiqua"/>
              </a:rPr>
              <a:t>p </a:t>
            </a:r>
            <a:r>
              <a:rPr b="1" lang="en-US" sz="4000" spc="-1" strike="noStrike">
                <a:solidFill>
                  <a:srgbClr val="71685a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71685a"/>
                </a:solidFill>
                <a:latin typeface="Book Antiqua"/>
              </a:rPr>
              <a:t>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CA2B-CEC3-4A39-949E-B3035DFF7AE3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2440" y="2282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8a44d"/>
                </a:solidFill>
                <a:latin typeface="Century Gothic"/>
              </a:rPr>
              <a:t>G1: Venn Diagram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63080" y="1295280"/>
            <a:ext cx="875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All A’s are B’s.  Some A’s are B’s. No A’s are B’s.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  Some B’s are A’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Oval 3"/>
          <p:cNvSpPr/>
          <p:nvPr/>
        </p:nvSpPr>
        <p:spPr>
          <a:xfrm>
            <a:off x="380880" y="2743200"/>
            <a:ext cx="2438640" cy="2743200"/>
          </a:xfrm>
          <a:prstGeom prst="ellipse">
            <a:avLst/>
          </a:prstGeom>
          <a:solidFill>
            <a:srgbClr val="956b43">
              <a:alpha val="69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1066680" y="4267080"/>
            <a:ext cx="1067040" cy="1067040"/>
          </a:xfrm>
          <a:prstGeom prst="ellipse">
            <a:avLst/>
          </a:prstGeom>
          <a:solidFill>
            <a:srgbClr val="008080">
              <a:alpha val="69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>
            <a:off x="6400800" y="3276720"/>
            <a:ext cx="1066680" cy="1066680"/>
          </a:xfrm>
          <a:prstGeom prst="ellipse">
            <a:avLst/>
          </a:prstGeom>
          <a:solidFill>
            <a:srgbClr val="008080">
              <a:alpha val="69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6"/>
          <p:cNvSpPr/>
          <p:nvPr/>
        </p:nvSpPr>
        <p:spPr>
          <a:xfrm>
            <a:off x="7620120" y="3276720"/>
            <a:ext cx="1066680" cy="1066680"/>
          </a:xfrm>
          <a:prstGeom prst="ellipse">
            <a:avLst/>
          </a:prstGeom>
          <a:solidFill>
            <a:srgbClr val="fea022">
              <a:alpha val="69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8"/>
          <p:cNvSpPr/>
          <p:nvPr/>
        </p:nvSpPr>
        <p:spPr>
          <a:xfrm>
            <a:off x="4495680" y="2895480"/>
            <a:ext cx="1600200" cy="1600200"/>
          </a:xfrm>
          <a:prstGeom prst="ellipse">
            <a:avLst/>
          </a:prstGeom>
          <a:solidFill>
            <a:srgbClr val="71685a">
              <a:alpha val="71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3352680" y="2895480"/>
            <a:ext cx="1600200" cy="1600200"/>
          </a:xfrm>
          <a:prstGeom prst="ellipse">
            <a:avLst/>
          </a:prstGeom>
          <a:solidFill>
            <a:srgbClr val="008080">
              <a:alpha val="56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2"/>
          <p:cNvSpPr/>
          <p:nvPr/>
        </p:nvSpPr>
        <p:spPr>
          <a:xfrm>
            <a:off x="3200400" y="1523880"/>
            <a:ext cx="0" cy="4572000"/>
          </a:xfrm>
          <a:prstGeom prst="line">
            <a:avLst/>
          </a:prstGeom>
          <a:ln w="255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13"/>
          <p:cNvSpPr/>
          <p:nvPr/>
        </p:nvSpPr>
        <p:spPr>
          <a:xfrm>
            <a:off x="6172200" y="1523880"/>
            <a:ext cx="0" cy="4572000"/>
          </a:xfrm>
          <a:prstGeom prst="line">
            <a:avLst/>
          </a:prstGeom>
          <a:ln w="255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4"/>
          <p:cNvSpPr/>
          <p:nvPr/>
        </p:nvSpPr>
        <p:spPr>
          <a:xfrm>
            <a:off x="857160" y="57150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, then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9FA8-57C7-48F0-B19E-3B0B22CB1773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8a44d"/>
                </a:solidFill>
                <a:latin typeface="Century Gothic"/>
              </a:rPr>
              <a:t>Typical Venn Diagram proble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2579760" y="1527120"/>
            <a:ext cx="3948120" cy="4572000"/>
          </a:xfrm>
          <a:prstGeom prst="rect">
            <a:avLst/>
          </a:prstGeom>
          <a:ln w="0">
            <a:noFill/>
          </a:ln>
        </p:spPr>
      </p:pic>
      <p:sp>
        <p:nvSpPr>
          <p:cNvPr id="372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12AE-D9BA-4BBF-85F0-7660688922D3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Venn Practice Problem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914400" y="45720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5" descr=""/>
          <p:cNvPicPr/>
          <p:nvPr/>
        </p:nvPicPr>
        <p:blipFill>
          <a:blip r:embed="rId1"/>
          <a:srcRect l="6243" t="0" r="23412" b="40858"/>
          <a:stretch/>
        </p:blipFill>
        <p:spPr>
          <a:xfrm>
            <a:off x="0" y="2514600"/>
            <a:ext cx="9144000" cy="3524400"/>
          </a:xfrm>
          <a:prstGeom prst="rect">
            <a:avLst/>
          </a:prstGeom>
          <a:ln w="0">
            <a:noFill/>
          </a:ln>
        </p:spPr>
      </p:pic>
      <p:sp>
        <p:nvSpPr>
          <p:cNvPr id="376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FB68-29C2-4985-8D11-CDC4FED515F1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997A-7205-4CA6-A8AC-17AC71B14CB0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720" y="583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Venn Practice Problem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914400" y="45720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1"/>
          <a:srcRect l="6214" t="0" r="23304" b="37408"/>
          <a:stretch/>
        </p:blipFill>
        <p:spPr>
          <a:xfrm>
            <a:off x="154080" y="2590920"/>
            <a:ext cx="8989920" cy="397800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2"/>
          <p:cNvSpPr/>
          <p:nvPr/>
        </p:nvSpPr>
        <p:spPr>
          <a:xfrm>
            <a:off x="649440" y="1295280"/>
            <a:ext cx="800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685a"/>
                </a:solidFill>
                <a:latin typeface="Century Gothic"/>
              </a:rPr>
              <a:t>Let’s see how this works!</a:t>
            </a:r>
            <a:br>
              <a:rPr sz="3600"/>
            </a:br>
            <a:r>
              <a:rPr b="0" lang="en-US" sz="3600" spc="-1" strike="noStrike">
                <a:solidFill>
                  <a:srgbClr val="71685a"/>
                </a:solidFill>
                <a:latin typeface="Century Gothic"/>
              </a:rPr>
              <a:t>Suppose you are give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5413320" y="5105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8080200" y="5181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BBCD-392B-4522-998C-6A54F8464FB8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1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D415-EF6F-4A48-B3A5-EBEBEEBF3F18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1:27:43Z</dcterms:created>
  <dc:creator>Patel</dc:creator>
  <dc:description/>
  <dc:language>en-US</dc:language>
  <cp:lastModifiedBy>chmorgan</cp:lastModifiedBy>
  <dcterms:modified xsi:type="dcterms:W3CDTF">2013-10-07T13:37:23Z</dcterms:modified>
  <cp:revision>97</cp:revision>
  <dc:subject/>
  <dc:title>CHAPTER 3</dc:title>
</cp:coreProperties>
</file>